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D489FD9-9CEA-469F-8A8F-E070C8CD135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itel: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gevensschets stelsel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uteur: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J. Campschroer / W.Krijgs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ie: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1.0.5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12-01-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476D-39ED-4715-A281-911C00D2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3280" y="3844440"/>
            <a:ext cx="7344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EFF5-5614-44B4-AD40-71815702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6720" y="169992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03280" y="384444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6720" y="384444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3A4-DC6E-400E-B906-C8DE211A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23644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86200" y="1699920"/>
            <a:ext cx="23644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69480" y="1699920"/>
            <a:ext cx="23644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03280" y="3844440"/>
            <a:ext cx="23644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86200" y="3844440"/>
            <a:ext cx="23644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69480" y="3844440"/>
            <a:ext cx="23644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B60-B692-4993-B26D-38FE9950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DA9-92BB-49F3-A1E2-9601CE66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18C-22EF-49FB-9AC3-619C71AD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358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6720" y="1699920"/>
            <a:ext cx="358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411F-178F-4084-80CE-D3816CB8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840-2377-483D-B626-6327D7FE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765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612-CBEC-4A0A-A53D-A0800E59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6720" y="1699920"/>
            <a:ext cx="358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03280" y="384444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155-67E3-4B8C-A128-1AA9CEBD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358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6720" y="169992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6720" y="384444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280D-4EDD-4096-BC97-B547B888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6720" y="169992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03280" y="3844440"/>
            <a:ext cx="7344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CE0-BF6D-476D-B592-F7D461A4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3280" cy="5445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 / 11 /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tormodel W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3E6A-7203-4332-898B-678D5518F9C6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88000" y="333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DERINGSKA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765000"/>
            <a:ext cx="82072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aarderingskamer.nl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hyperlink" Target="http://www.adeptscience.com/products/mathsim/mathcad/images/excel.gif" TargetMode="External"/><Relationship Id="rId6" Type="http://schemas.openxmlformats.org/officeDocument/2006/relationships/image" Target="../media/image8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384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StUf bij uitvoering Wet WOZ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of van Stuf naar StUF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aarderingska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r. Ruud M. Kathman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aarderingskamer.n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.kathmann@waarderingskamer.n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venant Sectormodel WO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tgebouwd op Stuf-T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amenwerking gehele dom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fstemming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edereen toeg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len inform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ördineren initiatie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4D6-7FA9-4BCA-8549-2ACA7FA5AB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ctormodel WO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eemt standaards NORA/OSB 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ar dan wel snel aansl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eemt StUF XML versie 3 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ar wel service georiënte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eemt StUF RSGB 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akt afhankelijk, dus betrok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oet er wel snel zij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definitie en implementat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379-CF43-49F4-A94E-BE98D7EB64A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47636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2840" y="122724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27680" y="107964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0560" y="507960"/>
            <a:ext cx="970200" cy="971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0240" y="341784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7520" y="292428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31840" y="2882880"/>
            <a:ext cx="118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KvK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39960" y="1798560"/>
            <a:ext cx="2873160" cy="1185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11240" y="1924200"/>
            <a:ext cx="1727280" cy="9349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79880" y="287280"/>
            <a:ext cx="3413160" cy="4759560"/>
          </a:xfrm>
          <a:custGeom>
            <a:avLst/>
            <a:gdLst>
              <a:gd name="textAreaLeft" fmla="*/ 166320 w 3413160"/>
              <a:gd name="textAreaRight" fmla="*/ 3246840 w 3413160"/>
              <a:gd name="textAreaTop" fmla="*/ 166320 h 4759560"/>
              <a:gd name="textAreaBottom" fmla="*/ 4593240 h 4759560"/>
            </a:gdLst>
            <a:ahLst/>
            <a:rect l="textAreaLeft" t="textAreaTop" r="textAreaRight" b="textAreaBottom"/>
            <a:pathLst>
              <a:path w="21600" h="30120">
                <a:moveTo>
                  <a:pt x="3600" y="0"/>
                </a:moveTo>
                <a:arcTo wR="3600" hR="3600" stAng="16200000" swAng="-5400000"/>
                <a:lnTo>
                  <a:pt x="0" y="26520"/>
                </a:lnTo>
                <a:arcTo wR="3600" hR="3600" stAng="10800000" swAng="-5400000"/>
                <a:lnTo>
                  <a:pt x="18000" y="30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72000" y="385920"/>
            <a:ext cx="614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uimtelijk obj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72360" y="3589200"/>
            <a:ext cx="974880" cy="236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40680" y="3567240"/>
            <a:ext cx="974520" cy="2358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40680" y="3565440"/>
            <a:ext cx="974520" cy="23605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31040" y="361800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1440" y="1808280"/>
            <a:ext cx="30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erso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76400" y="2063880"/>
            <a:ext cx="735120" cy="831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7960" y="2044800"/>
            <a:ext cx="734760" cy="8316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7960" y="2044800"/>
            <a:ext cx="734760" cy="831600"/>
          </a:xfrm>
          <a:prstGeom prst="rect">
            <a:avLst/>
          </a:prstGeom>
          <a:solidFill>
            <a:srgbClr val="99ff66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28400" y="20480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74960" y="2070000"/>
            <a:ext cx="882720" cy="2440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35360" y="2044800"/>
            <a:ext cx="882720" cy="243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35360" y="2044800"/>
            <a:ext cx="882720" cy="24397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7760" y="20480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3591000"/>
            <a:ext cx="1484280" cy="146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26120" y="3567240"/>
            <a:ext cx="1482480" cy="14684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26120" y="3567240"/>
            <a:ext cx="1482480" cy="14684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02320" y="36939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348680" y="3967200"/>
            <a:ext cx="576000" cy="317520"/>
            <a:chOff x="7348680" y="3967200"/>
            <a:chExt cx="576000" cy="317520"/>
          </a:xfrm>
        </p:grpSpPr>
        <p:sp>
          <p:nvSpPr>
            <p:cNvPr id="101" name=""/>
            <p:cNvSpPr/>
            <p:nvPr/>
          </p:nvSpPr>
          <p:spPr>
            <a:xfrm>
              <a:off x="7348680" y="3967200"/>
              <a:ext cx="57600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48680" y="3967200"/>
              <a:ext cx="57600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7413480" y="4062240"/>
            <a:ext cx="436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Woonplaa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46680" y="514440"/>
            <a:ext cx="2127240" cy="958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13200" y="480960"/>
            <a:ext cx="2111400" cy="966960"/>
          </a:xfrm>
          <a:prstGeom prst="rect">
            <a:avLst/>
          </a:prstGeom>
          <a:solidFill>
            <a:srgbClr val="66ff66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19680" y="47160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56520" y="1628640"/>
            <a:ext cx="969840" cy="873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24840" y="1601640"/>
            <a:ext cx="969840" cy="871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24840" y="1601640"/>
            <a:ext cx="969840" cy="87156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35880" y="168120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BK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40680" y="504720"/>
            <a:ext cx="969840" cy="96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09000" y="476280"/>
            <a:ext cx="969840" cy="968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09000" y="476280"/>
            <a:ext cx="969840" cy="96840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21600" y="4874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67760" y="979560"/>
            <a:ext cx="69660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67760" y="979560"/>
            <a:ext cx="696600" cy="31752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71440" y="1017720"/>
            <a:ext cx="46260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Kleinschali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71080" y="1144440"/>
            <a:ext cx="41256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Geo-obj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2640" y="5126040"/>
            <a:ext cx="107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21" idx="2"/>
            <a:endCxn id="122" idx="0"/>
          </p:cNvCxnSpPr>
          <p:nvPr/>
        </p:nvCxnSpPr>
        <p:spPr>
          <a:xfrm>
            <a:off x="7633800" y="5364000"/>
            <a:ext cx="2520" cy="131040"/>
          </a:xfrm>
          <a:prstGeom prst="straightConnector1">
            <a:avLst/>
          </a:prstGeom>
          <a:ln w="19080">
            <a:solidFill>
              <a:srgbClr val="0066cc"/>
            </a:solidFill>
            <a:miter/>
          </a:ln>
        </p:spPr>
      </p:cxnSp>
      <p:cxnSp>
        <p:nvCxnSpPr>
          <p:cNvPr id="123" name=""/>
          <p:cNvCxnSpPr>
            <a:stCxn id="102" idx="2"/>
            <a:endCxn id="121" idx="0"/>
          </p:cNvCxnSpPr>
          <p:nvPr/>
        </p:nvCxnSpPr>
        <p:spPr>
          <a:xfrm flipH="1">
            <a:off x="7633440" y="4284360"/>
            <a:ext cx="3960" cy="762840"/>
          </a:xfrm>
          <a:prstGeom prst="straightConnector1">
            <a:avLst/>
          </a:prstGeom>
          <a:ln w="19080">
            <a:solidFill>
              <a:srgbClr val="0066cc"/>
            </a:solidFill>
            <a:miter/>
          </a:ln>
        </p:spPr>
      </p:cxnSp>
      <p:cxnSp>
        <p:nvCxnSpPr>
          <p:cNvPr id="124" name=""/>
          <p:cNvCxnSpPr>
            <a:stCxn id="102" idx="3"/>
            <a:endCxn id="122" idx="3"/>
          </p:cNvCxnSpPr>
          <p:nvPr/>
        </p:nvCxnSpPr>
        <p:spPr>
          <a:xfrm flipH="1">
            <a:off x="7919280" y="4125960"/>
            <a:ext cx="5400" cy="1537200"/>
          </a:xfrm>
          <a:prstGeom prst="bentConnector3">
            <a:avLst>
              <a:gd name="adj1" fmla="val -4764285"/>
            </a:avLst>
          </a:prstGeom>
          <a:ln w="19080">
            <a:solidFill>
              <a:srgbClr val="0066cc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053040" y="487692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62720" y="558648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8" idx="4"/>
            <a:endCxn id="129" idx="2"/>
          </p:cNvCxnSpPr>
          <p:nvPr/>
        </p:nvCxnSpPr>
        <p:spPr>
          <a:xfrm flipH="1" rot="16200000">
            <a:off x="4070160" y="3531240"/>
            <a:ext cx="442080" cy="200268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254400" y="424008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12720" y="452916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63240" y="290520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54400" y="391788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4" idx="4"/>
            <a:endCxn id="132" idx="0"/>
          </p:cNvCxnSpPr>
          <p:nvPr/>
        </p:nvCxnSpPr>
        <p:spPr>
          <a:xfrm flipV="1" rot="10800000">
            <a:off x="3290040" y="3671640"/>
            <a:ext cx="1080" cy="24660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3254400" y="360036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3720" y="115236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47800" y="337356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22800" y="147960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1360" y="147312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35640" y="447660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35640" y="388764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9280" y="114624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23600" y="873000"/>
            <a:ext cx="11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O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89120" y="514440"/>
            <a:ext cx="969840" cy="965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57440" y="476280"/>
            <a:ext cx="969840" cy="968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57440" y="476280"/>
            <a:ext cx="969840" cy="96840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0040" y="484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65400" y="121932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2760" y="476280"/>
            <a:ext cx="969840" cy="961920"/>
          </a:xfrm>
          <a:prstGeom prst="rect">
            <a:avLst/>
          </a:prstGeom>
          <a:solidFill>
            <a:srgbClr val="ffcc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2120" y="484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1320" y="1224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70080" y="150480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16280" y="151128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14480" y="511200"/>
            <a:ext cx="970200" cy="96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82800" y="573120"/>
            <a:ext cx="970200" cy="871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82800" y="476280"/>
            <a:ext cx="970200" cy="968400"/>
          </a:xfrm>
          <a:prstGeom prst="rect">
            <a:avLst/>
          </a:prstGeom>
          <a:solidFill>
            <a:srgbClr val="ffcc66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95760" y="4842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30480" y="121932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3760" y="148608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12920" y="121932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7800" y="148608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20840" y="147636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36520" y="2063880"/>
            <a:ext cx="735120" cy="831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2049480"/>
            <a:ext cx="735120" cy="8319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4560" y="2044800"/>
            <a:ext cx="734760" cy="83160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43160" y="2039760"/>
            <a:ext cx="234360" cy="168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168560" y="2322360"/>
            <a:ext cx="634680" cy="436680"/>
            <a:chOff x="1168560" y="2322360"/>
            <a:chExt cx="634680" cy="436680"/>
          </a:xfrm>
        </p:grpSpPr>
        <p:grpSp>
          <p:nvGrpSpPr>
            <p:cNvPr id="167" name=""/>
            <p:cNvGrpSpPr/>
            <p:nvPr/>
          </p:nvGrpSpPr>
          <p:grpSpPr>
            <a:xfrm>
              <a:off x="1168560" y="2322360"/>
              <a:ext cx="634680" cy="436680"/>
              <a:chOff x="1168560" y="2322360"/>
              <a:chExt cx="634680" cy="436680"/>
            </a:xfrm>
          </p:grpSpPr>
          <p:sp>
            <p:nvSpPr>
              <p:cNvPr id="168" name=""/>
              <p:cNvSpPr/>
              <p:nvPr/>
            </p:nvSpPr>
            <p:spPr>
              <a:xfrm>
                <a:off x="1168560" y="2322360"/>
                <a:ext cx="634680" cy="4366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8560" y="2322360"/>
                <a:ext cx="634680" cy="4366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399320" y="2409840"/>
              <a:ext cx="17604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iet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0960" y="2536920"/>
              <a:ext cx="40788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ngezeten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269120" y="2606760"/>
            <a:ext cx="969840" cy="87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7440" y="2579760"/>
            <a:ext cx="969840" cy="871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37440" y="2579760"/>
            <a:ext cx="969840" cy="87156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48480" y="2658960"/>
            <a:ext cx="31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396200" y="2986200"/>
            <a:ext cx="696960" cy="317520"/>
            <a:chOff x="7396200" y="2986200"/>
            <a:chExt cx="696960" cy="317520"/>
          </a:xfrm>
        </p:grpSpPr>
        <p:sp>
          <p:nvSpPr>
            <p:cNvPr id="177" name=""/>
            <p:cNvSpPr/>
            <p:nvPr/>
          </p:nvSpPr>
          <p:spPr>
            <a:xfrm>
              <a:off x="7396200" y="2986200"/>
              <a:ext cx="69696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96200" y="2986200"/>
              <a:ext cx="69696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7494120" y="3036960"/>
            <a:ext cx="52992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ndergrond”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41520" y="974880"/>
            <a:ext cx="696600" cy="323640"/>
            <a:chOff x="641520" y="974880"/>
            <a:chExt cx="696600" cy="323640"/>
          </a:xfrm>
        </p:grpSpPr>
        <p:grpSp>
          <p:nvGrpSpPr>
            <p:cNvPr id="181" name=""/>
            <p:cNvGrpSpPr/>
            <p:nvPr/>
          </p:nvGrpSpPr>
          <p:grpSpPr>
            <a:xfrm>
              <a:off x="641520" y="974880"/>
              <a:ext cx="696600" cy="323640"/>
              <a:chOff x="641520" y="974880"/>
              <a:chExt cx="696600" cy="323640"/>
            </a:xfrm>
          </p:grpSpPr>
          <p:sp>
            <p:nvSpPr>
              <p:cNvPr id="182" name=""/>
              <p:cNvSpPr/>
              <p:nvPr/>
            </p:nvSpPr>
            <p:spPr>
              <a:xfrm>
                <a:off x="641520" y="974880"/>
                <a:ext cx="696600" cy="323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41520" y="974880"/>
                <a:ext cx="696600" cy="32364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722880" y="1003320"/>
              <a:ext cx="49320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Gekenteken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3240" y="1128600"/>
              <a:ext cx="32112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oertui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013120" y="2322360"/>
            <a:ext cx="634680" cy="436680"/>
            <a:chOff x="2013120" y="2322360"/>
            <a:chExt cx="634680" cy="436680"/>
          </a:xfrm>
        </p:grpSpPr>
        <p:grpSp>
          <p:nvGrpSpPr>
            <p:cNvPr id="187" name=""/>
            <p:cNvGrpSpPr/>
            <p:nvPr/>
          </p:nvGrpSpPr>
          <p:grpSpPr>
            <a:xfrm>
              <a:off x="2013120" y="2322360"/>
              <a:ext cx="634680" cy="436680"/>
              <a:chOff x="2013120" y="2322360"/>
              <a:chExt cx="634680" cy="436680"/>
            </a:xfrm>
          </p:grpSpPr>
          <p:sp>
            <p:nvSpPr>
              <p:cNvPr id="188" name=""/>
              <p:cNvSpPr/>
              <p:nvPr/>
            </p:nvSpPr>
            <p:spPr>
              <a:xfrm>
                <a:off x="2013120" y="2322360"/>
                <a:ext cx="634680" cy="4366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013120" y="2322360"/>
                <a:ext cx="634680" cy="4366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134080" y="2414520"/>
              <a:ext cx="39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ngezeten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898720" y="2322360"/>
            <a:ext cx="747720" cy="436680"/>
            <a:chOff x="2898720" y="2322360"/>
            <a:chExt cx="747720" cy="436680"/>
          </a:xfrm>
        </p:grpSpPr>
        <p:grpSp>
          <p:nvGrpSpPr>
            <p:cNvPr id="192" name=""/>
            <p:cNvGrpSpPr/>
            <p:nvPr/>
          </p:nvGrpSpPr>
          <p:grpSpPr>
            <a:xfrm>
              <a:off x="2898720" y="2322360"/>
              <a:ext cx="747720" cy="436680"/>
              <a:chOff x="2898720" y="2322360"/>
              <a:chExt cx="747720" cy="436680"/>
            </a:xfrm>
          </p:grpSpPr>
          <p:sp>
            <p:nvSpPr>
              <p:cNvPr id="193" name=""/>
              <p:cNvSpPr/>
              <p:nvPr/>
            </p:nvSpPr>
            <p:spPr>
              <a:xfrm>
                <a:off x="2898720" y="2322360"/>
                <a:ext cx="747720" cy="4366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98720" y="2322360"/>
                <a:ext cx="747720" cy="4366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106800" y="2351160"/>
              <a:ext cx="354240" cy="345600"/>
              <a:chOff x="3106800" y="2351160"/>
              <a:chExt cx="354240" cy="345600"/>
            </a:xfrm>
          </p:grpSpPr>
          <p:sp>
            <p:nvSpPr>
              <p:cNvPr id="196" name=""/>
              <p:cNvSpPr/>
              <p:nvPr/>
            </p:nvSpPr>
            <p:spPr>
              <a:xfrm>
                <a:off x="3217680" y="2351160"/>
                <a:ext cx="14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Nie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06800" y="2478240"/>
                <a:ext cx="3542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Natuurlijk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155760" y="2604960"/>
                <a:ext cx="3038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erso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2898720" y="3917880"/>
            <a:ext cx="765360" cy="397080"/>
            <a:chOff x="2898720" y="3917880"/>
            <a:chExt cx="765360" cy="397080"/>
          </a:xfrm>
        </p:grpSpPr>
        <p:grpSp>
          <p:nvGrpSpPr>
            <p:cNvPr id="200" name=""/>
            <p:cNvGrpSpPr/>
            <p:nvPr/>
          </p:nvGrpSpPr>
          <p:grpSpPr>
            <a:xfrm>
              <a:off x="2898720" y="3917880"/>
              <a:ext cx="765360" cy="397080"/>
              <a:chOff x="2898720" y="3917880"/>
              <a:chExt cx="765360" cy="397080"/>
            </a:xfrm>
          </p:grpSpPr>
          <p:sp>
            <p:nvSpPr>
              <p:cNvPr id="201" name=""/>
              <p:cNvSpPr/>
              <p:nvPr/>
            </p:nvSpPr>
            <p:spPr>
              <a:xfrm>
                <a:off x="2898720" y="3917880"/>
                <a:ext cx="765360" cy="3970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98720" y="3917880"/>
                <a:ext cx="765360" cy="3970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135960" y="4065480"/>
              <a:ext cx="34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estig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816200" y="979560"/>
            <a:ext cx="69696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816200" y="979560"/>
            <a:ext cx="696960" cy="317520"/>
            <a:chOff x="1816200" y="979560"/>
            <a:chExt cx="696960" cy="317520"/>
          </a:xfrm>
        </p:grpSpPr>
        <p:sp>
          <p:nvSpPr>
            <p:cNvPr id="206" name=""/>
            <p:cNvSpPr/>
            <p:nvPr/>
          </p:nvSpPr>
          <p:spPr>
            <a:xfrm>
              <a:off x="1816200" y="979560"/>
              <a:ext cx="69696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01960" y="1087560"/>
              <a:ext cx="32544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nkome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897280" y="973080"/>
            <a:ext cx="696960" cy="31752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348680" y="5046840"/>
            <a:ext cx="571320" cy="317160"/>
            <a:chOff x="7348680" y="5046840"/>
            <a:chExt cx="571320" cy="317160"/>
          </a:xfrm>
        </p:grpSpPr>
        <p:grpSp>
          <p:nvGrpSpPr>
            <p:cNvPr id="210" name=""/>
            <p:cNvGrpSpPr/>
            <p:nvPr/>
          </p:nvGrpSpPr>
          <p:grpSpPr>
            <a:xfrm>
              <a:off x="7348680" y="5046840"/>
              <a:ext cx="571320" cy="317160"/>
              <a:chOff x="7348680" y="5046840"/>
              <a:chExt cx="571320" cy="317160"/>
            </a:xfrm>
          </p:grpSpPr>
          <p:sp>
            <p:nvSpPr>
              <p:cNvPr id="211" name=""/>
              <p:cNvSpPr/>
              <p:nvPr/>
            </p:nvSpPr>
            <p:spPr>
              <a:xfrm>
                <a:off x="7348680" y="5046840"/>
                <a:ext cx="571320" cy="31716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348680" y="5046840"/>
                <a:ext cx="571320" cy="31716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7472520" y="5087880"/>
              <a:ext cx="35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penba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32280" y="5214960"/>
              <a:ext cx="234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ruim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7350120" y="5494320"/>
            <a:ext cx="569880" cy="336600"/>
            <a:chOff x="7350120" y="5494320"/>
            <a:chExt cx="569880" cy="336600"/>
          </a:xfrm>
        </p:grpSpPr>
        <p:grpSp>
          <p:nvGrpSpPr>
            <p:cNvPr id="215" name=""/>
            <p:cNvGrpSpPr/>
            <p:nvPr/>
          </p:nvGrpSpPr>
          <p:grpSpPr>
            <a:xfrm>
              <a:off x="7350120" y="5494320"/>
              <a:ext cx="569880" cy="336600"/>
              <a:chOff x="7350120" y="5494320"/>
              <a:chExt cx="569880" cy="336600"/>
            </a:xfrm>
          </p:grpSpPr>
          <p:sp>
            <p:nvSpPr>
              <p:cNvPr id="216" name=""/>
              <p:cNvSpPr/>
              <p:nvPr/>
            </p:nvSpPr>
            <p:spPr>
              <a:xfrm>
                <a:off x="7350120" y="5494320"/>
                <a:ext cx="569880" cy="3366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350120" y="5494320"/>
                <a:ext cx="569880" cy="33660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479720" y="5564880"/>
              <a:ext cx="33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ummer-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60280" y="5663160"/>
              <a:ext cx="412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anduid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283360" y="4400640"/>
            <a:ext cx="1368360" cy="555480"/>
            <a:chOff x="5283360" y="4400640"/>
            <a:chExt cx="1368360" cy="555480"/>
          </a:xfrm>
        </p:grpSpPr>
        <p:grpSp>
          <p:nvGrpSpPr>
            <p:cNvPr id="220" name=""/>
            <p:cNvGrpSpPr/>
            <p:nvPr/>
          </p:nvGrpSpPr>
          <p:grpSpPr>
            <a:xfrm>
              <a:off x="5283360" y="4400640"/>
              <a:ext cx="1368360" cy="555480"/>
              <a:chOff x="5283360" y="4400640"/>
              <a:chExt cx="1368360" cy="555480"/>
            </a:xfrm>
          </p:grpSpPr>
          <p:sp>
            <p:nvSpPr>
              <p:cNvPr id="221" name=""/>
              <p:cNvSpPr/>
              <p:nvPr/>
            </p:nvSpPr>
            <p:spPr>
              <a:xfrm>
                <a:off x="5283360" y="4400640"/>
                <a:ext cx="1368360" cy="5554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283360" y="4400640"/>
                <a:ext cx="1368360" cy="5554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5541480" y="4825800"/>
              <a:ext cx="784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dresseerbaar obje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40240" y="4479840"/>
            <a:ext cx="569880" cy="317520"/>
            <a:chOff x="5340240" y="4479840"/>
            <a:chExt cx="569880" cy="317520"/>
          </a:xfrm>
        </p:grpSpPr>
        <p:sp>
          <p:nvSpPr>
            <p:cNvPr id="225" name=""/>
            <p:cNvSpPr/>
            <p:nvPr/>
          </p:nvSpPr>
          <p:spPr>
            <a:xfrm>
              <a:off x="5340240" y="4479840"/>
              <a:ext cx="56988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40240" y="4479840"/>
              <a:ext cx="56988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402880" y="4511520"/>
            <a:ext cx="45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tandplaats,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10440" y="4638600"/>
            <a:ext cx="339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igplaa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967360" y="4479840"/>
            <a:ext cx="569880" cy="317520"/>
            <a:chOff x="5967360" y="4479840"/>
            <a:chExt cx="569880" cy="317520"/>
          </a:xfrm>
        </p:grpSpPr>
        <p:grpSp>
          <p:nvGrpSpPr>
            <p:cNvPr id="230" name=""/>
            <p:cNvGrpSpPr/>
            <p:nvPr/>
          </p:nvGrpSpPr>
          <p:grpSpPr>
            <a:xfrm>
              <a:off x="5967360" y="4479840"/>
              <a:ext cx="569880" cy="317520"/>
              <a:chOff x="5967360" y="4479840"/>
              <a:chExt cx="569880" cy="317520"/>
            </a:xfrm>
          </p:grpSpPr>
          <p:sp>
            <p:nvSpPr>
              <p:cNvPr id="231" name=""/>
              <p:cNvSpPr/>
              <p:nvPr/>
            </p:nvSpPr>
            <p:spPr>
              <a:xfrm>
                <a:off x="5967360" y="4479840"/>
                <a:ext cx="569880" cy="3175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967360" y="4479840"/>
                <a:ext cx="569880" cy="3175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6083280" y="4511520"/>
              <a:ext cx="32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Verblijfs-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49520" y="4638600"/>
              <a:ext cx="22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967360" y="3646440"/>
            <a:ext cx="577800" cy="317520"/>
            <a:chOff x="5967360" y="3646440"/>
            <a:chExt cx="577800" cy="317520"/>
          </a:xfrm>
        </p:grpSpPr>
        <p:grpSp>
          <p:nvGrpSpPr>
            <p:cNvPr id="236" name=""/>
            <p:cNvGrpSpPr/>
            <p:nvPr/>
          </p:nvGrpSpPr>
          <p:grpSpPr>
            <a:xfrm>
              <a:off x="5967360" y="3646440"/>
              <a:ext cx="577800" cy="317520"/>
              <a:chOff x="5967360" y="3646440"/>
              <a:chExt cx="577800" cy="317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967360" y="3646440"/>
                <a:ext cx="577800" cy="3175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967360" y="3646440"/>
                <a:ext cx="577800" cy="3175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6186960" y="3741840"/>
              <a:ext cx="18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Pan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144440" y="2297160"/>
            <a:ext cx="1522440" cy="48744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92480" y="26859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40840" y="1941480"/>
            <a:ext cx="678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atuurlijk perso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44" idx="0"/>
            <a:endCxn id="147" idx="4"/>
          </p:cNvCxnSpPr>
          <p:nvPr/>
        </p:nvCxnSpPr>
        <p:spPr>
          <a:xfrm flipH="1" flipV="1" rot="5400000">
            <a:off x="1552320" y="1644120"/>
            <a:ext cx="1003680" cy="295560"/>
          </a:xfrm>
          <a:prstGeom prst="bentConnector3">
            <a:avLst>
              <a:gd name="adj1" fmla="val 67707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44" idx="0"/>
            <a:endCxn id="157" idx="4"/>
          </p:cNvCxnSpPr>
          <p:nvPr/>
        </p:nvCxnSpPr>
        <p:spPr>
          <a:xfrm flipH="1" flipV="1" rot="5400000">
            <a:off x="1985040" y="1211400"/>
            <a:ext cx="1003680" cy="1161360"/>
          </a:xfrm>
          <a:prstGeom prst="bentConnector3">
            <a:avLst>
              <a:gd name="adj1" fmla="val 67707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47" idx="0"/>
            <a:endCxn id="159" idx="4"/>
          </p:cNvCxnSpPr>
          <p:nvPr/>
        </p:nvCxnSpPr>
        <p:spPr>
          <a:xfrm flipH="1" flipV="1" rot="5400000">
            <a:off x="2540520" y="1711800"/>
            <a:ext cx="1031040" cy="187920"/>
          </a:xfrm>
          <a:prstGeom prst="bentConnector3">
            <a:avLst>
              <a:gd name="adj1" fmla="val 56828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49" idx="4"/>
            <a:endCxn id="250" idx="2"/>
          </p:cNvCxnSpPr>
          <p:nvPr/>
        </p:nvCxnSpPr>
        <p:spPr>
          <a:xfrm flipH="1" rot="16200000">
            <a:off x="2465640" y="2855520"/>
            <a:ext cx="529200" cy="396000"/>
          </a:xfrm>
          <a:prstGeom prst="bentConnector2">
            <a:avLst/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9" idx="4"/>
            <a:endCxn id="252" idx="2"/>
          </p:cNvCxnSpPr>
          <p:nvPr/>
        </p:nvCxnSpPr>
        <p:spPr>
          <a:xfrm flipH="1" flipV="1" rot="5400000">
            <a:off x="2697840" y="2559240"/>
            <a:ext cx="64440" cy="396000"/>
          </a:xfrm>
          <a:prstGeom prst="bentConnector4">
            <a:avLst>
              <a:gd name="adj1" fmla="val -824719"/>
              <a:gd name="adj2" fmla="val 65059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7" idx="0"/>
            <a:endCxn id="150" idx="4"/>
          </p:cNvCxnSpPr>
          <p:nvPr/>
        </p:nvCxnSpPr>
        <p:spPr>
          <a:xfrm flipV="1" rot="16200000">
            <a:off x="1541520" y="900000"/>
            <a:ext cx="1026360" cy="1815480"/>
          </a:xfrm>
          <a:prstGeom prst="bentConnector3">
            <a:avLst>
              <a:gd name="adj1" fmla="val 57263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73" idx="4"/>
          </p:cNvCxnSpPr>
          <p:nvPr/>
        </p:nvCxnSpPr>
        <p:spPr>
          <a:xfrm flipV="1" rot="16200000">
            <a:off x="1083600" y="1462680"/>
            <a:ext cx="988200" cy="658080"/>
          </a:xfrm>
          <a:prstGeom prst="bentConnector3">
            <a:avLst>
              <a:gd name="adj1" fmla="val 68148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1" idx="4"/>
            <a:endCxn id="129" idx="2"/>
          </p:cNvCxnSpPr>
          <p:nvPr/>
        </p:nvCxnSpPr>
        <p:spPr>
          <a:xfrm flipH="1" rot="16200000">
            <a:off x="2811960" y="2273040"/>
            <a:ext cx="1996200" cy="296460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cxnSp>
        <p:nvCxnSpPr>
          <p:cNvPr id="256" name=""/>
          <p:cNvCxnSpPr>
            <a:stCxn id="125" idx="4"/>
            <a:endCxn id="122" idx="1"/>
          </p:cNvCxnSpPr>
          <p:nvPr/>
        </p:nvCxnSpPr>
        <p:spPr>
          <a:xfrm flipH="1" rot="16200000">
            <a:off x="6361920" y="4674960"/>
            <a:ext cx="714960" cy="126108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cxnSp>
        <p:nvCxnSpPr>
          <p:cNvPr id="257" name=""/>
          <p:cNvCxnSpPr>
            <a:stCxn id="258" idx="4"/>
            <a:endCxn id="259" idx="0"/>
          </p:cNvCxnSpPr>
          <p:nvPr/>
        </p:nvCxnSpPr>
        <p:spPr>
          <a:xfrm flipV="1" rot="10800000">
            <a:off x="3322080" y="826560"/>
            <a:ext cx="1080" cy="14544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3970440" y="979560"/>
            <a:ext cx="57780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70440" y="982800"/>
            <a:ext cx="577800" cy="31428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63400" y="1119240"/>
            <a:ext cx="22356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ch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22720" y="1033560"/>
            <a:ext cx="29196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Zakelij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endCxn id="265" idx="4"/>
          </p:cNvCxnSpPr>
          <p:nvPr/>
        </p:nvCxnSpPr>
        <p:spPr>
          <a:xfrm flipH="1" flipV="1" rot="5400000">
            <a:off x="3964320" y="1509840"/>
            <a:ext cx="446760" cy="3960"/>
          </a:xfrm>
          <a:prstGeom prst="bentConnector3">
            <a:avLst>
              <a:gd name="adj1" fmla="val 49758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endCxn id="267" idx="4"/>
          </p:cNvCxnSpPr>
          <p:nvPr/>
        </p:nvCxnSpPr>
        <p:spPr>
          <a:xfrm flipV="1">
            <a:off x="2028960" y="1291680"/>
            <a:ext cx="2070720" cy="324360"/>
          </a:xfrm>
          <a:prstGeom prst="bentConnector2">
            <a:avLst/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grpSp>
        <p:nvGrpSpPr>
          <p:cNvPr id="268" name=""/>
          <p:cNvGrpSpPr/>
          <p:nvPr/>
        </p:nvGrpSpPr>
        <p:grpSpPr>
          <a:xfrm>
            <a:off x="7383600" y="2214720"/>
            <a:ext cx="696600" cy="214200"/>
            <a:chOff x="7383600" y="2214720"/>
            <a:chExt cx="696600" cy="214200"/>
          </a:xfrm>
        </p:grpSpPr>
        <p:sp>
          <p:nvSpPr>
            <p:cNvPr id="269" name=""/>
            <p:cNvSpPr/>
            <p:nvPr/>
          </p:nvSpPr>
          <p:spPr>
            <a:xfrm>
              <a:off x="7383600" y="2214720"/>
              <a:ext cx="696600" cy="214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83600" y="2214720"/>
              <a:ext cx="696600" cy="21420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7484400" y="2268360"/>
            <a:ext cx="43668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ijnel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76720" y="115236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76720" y="506520"/>
            <a:ext cx="824040" cy="847440"/>
          </a:xfrm>
          <a:custGeom>
            <a:avLst/>
            <a:gdLst>
              <a:gd name="textAreaLeft" fmla="*/ 39960 w 824040"/>
              <a:gd name="textAreaRight" fmla="*/ 784080 w 824040"/>
              <a:gd name="textAreaTop" fmla="*/ 39960 h 847440"/>
              <a:gd name="textAreaBottom" fmla="*/ 807480 h 847440"/>
            </a:gdLst>
            <a:ahLst/>
            <a:rect l="textAreaLeft" t="textAreaTop" r="textAreaRight" b="textAreaBottom"/>
            <a:pathLst>
              <a:path w="21600" h="22213">
                <a:moveTo>
                  <a:pt x="3600" y="0"/>
                </a:moveTo>
                <a:arcTo wR="3600" hR="3600" stAng="16200000" swAng="-5400000"/>
                <a:lnTo>
                  <a:pt x="0" y="18613"/>
                </a:lnTo>
                <a:arcTo wR="3600" hR="3600" stAng="10800000" swAng="-5400000"/>
                <a:lnTo>
                  <a:pt x="18000" y="222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70680" y="522360"/>
            <a:ext cx="62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nroerende zaa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"/>
          <p:cNvCxnSpPr>
            <a:stCxn id="135" idx="6"/>
            <a:endCxn id="272" idx="2"/>
          </p:cNvCxnSpPr>
          <p:nvPr/>
        </p:nvCxnSpPr>
        <p:spPr>
          <a:xfrm>
            <a:off x="4544640" y="1188720"/>
            <a:ext cx="532440" cy="108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cxnSp>
        <p:nvCxnSpPr>
          <p:cNvPr id="276" name=""/>
          <p:cNvCxnSpPr>
            <a:stCxn id="277" idx="6"/>
            <a:endCxn id="278" idx="2"/>
          </p:cNvCxnSpPr>
          <p:nvPr/>
        </p:nvCxnSpPr>
        <p:spPr>
          <a:xfrm>
            <a:off x="5897520" y="982800"/>
            <a:ext cx="1456560" cy="4147200"/>
          </a:xfrm>
          <a:prstGeom prst="bentConnector3">
            <a:avLst>
              <a:gd name="adj1" fmla="val 77206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cxnSp>
        <p:nvCxnSpPr>
          <p:cNvPr id="279" name=""/>
          <p:cNvCxnSpPr>
            <a:stCxn id="74" idx="6"/>
            <a:endCxn id="280" idx="0"/>
          </p:cNvCxnSpPr>
          <p:nvPr/>
        </p:nvCxnSpPr>
        <p:spPr>
          <a:xfrm>
            <a:off x="5898960" y="1116000"/>
            <a:ext cx="695520" cy="328680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108400" y="649440"/>
            <a:ext cx="744840" cy="244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46920" y="126684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24360" y="112536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08400" y="1074600"/>
            <a:ext cx="744840" cy="176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03800" y="671400"/>
            <a:ext cx="535320" cy="202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Appartemen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rech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383600" y="1843200"/>
            <a:ext cx="696600" cy="317520"/>
            <a:chOff x="7383600" y="1843200"/>
            <a:chExt cx="696600" cy="317520"/>
          </a:xfrm>
        </p:grpSpPr>
        <p:grpSp>
          <p:nvGrpSpPr>
            <p:cNvPr id="287" name=""/>
            <p:cNvGrpSpPr/>
            <p:nvPr/>
          </p:nvGrpSpPr>
          <p:grpSpPr>
            <a:xfrm>
              <a:off x="7383600" y="1843200"/>
              <a:ext cx="696600" cy="317520"/>
              <a:chOff x="7383600" y="1843200"/>
              <a:chExt cx="696600" cy="317520"/>
            </a:xfrm>
          </p:grpSpPr>
          <p:sp>
            <p:nvSpPr>
              <p:cNvPr id="288" name=""/>
              <p:cNvSpPr/>
              <p:nvPr/>
            </p:nvSpPr>
            <p:spPr>
              <a:xfrm>
                <a:off x="7383600" y="1843200"/>
                <a:ext cx="696600" cy="3175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83600" y="1843200"/>
                <a:ext cx="696600" cy="3175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7515360" y="1852560"/>
              <a:ext cx="48420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Grootschali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4440" y="2048040"/>
              <a:ext cx="23724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12120" y="1951200"/>
              <a:ext cx="47628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opografisc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870200" y="229392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95520" y="2717640"/>
            <a:ext cx="71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72440" y="118440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00680" y="932040"/>
            <a:ext cx="9684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140" idx="4"/>
            <a:endCxn id="139" idx="0"/>
          </p:cNvCxnSpPr>
          <p:nvPr/>
        </p:nvCxnSpPr>
        <p:spPr>
          <a:xfrm flipV="1" rot="10800000">
            <a:off x="6371640" y="3958920"/>
            <a:ext cx="1080" cy="51804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5292720" y="47163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25720" y="232092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419880" y="3835440"/>
            <a:ext cx="114840" cy="114840"/>
            <a:chOff x="6419880" y="3835440"/>
            <a:chExt cx="114840" cy="114840"/>
          </a:xfrm>
        </p:grpSpPr>
        <p:sp>
          <p:nvSpPr>
            <p:cNvPr id="296" name=""/>
            <p:cNvSpPr/>
            <p:nvPr/>
          </p:nvSpPr>
          <p:spPr>
            <a:xfrm>
              <a:off x="6419880" y="383544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0120" y="383544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6200000">
              <a:off x="6467760" y="383508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799400" y="4156200"/>
            <a:ext cx="114840" cy="114840"/>
            <a:chOff x="7799400" y="4156200"/>
            <a:chExt cx="114840" cy="114840"/>
          </a:xfrm>
        </p:grpSpPr>
        <p:sp>
          <p:nvSpPr>
            <p:cNvPr id="300" name=""/>
            <p:cNvSpPr/>
            <p:nvPr/>
          </p:nvSpPr>
          <p:spPr>
            <a:xfrm>
              <a:off x="7799400" y="415620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29640" y="415620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7847280" y="415584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410160" y="4670280"/>
            <a:ext cx="114840" cy="114840"/>
            <a:chOff x="6410160" y="4670280"/>
            <a:chExt cx="114840" cy="114840"/>
          </a:xfrm>
        </p:grpSpPr>
        <p:sp>
          <p:nvSpPr>
            <p:cNvPr id="304" name=""/>
            <p:cNvSpPr/>
            <p:nvPr/>
          </p:nvSpPr>
          <p:spPr>
            <a:xfrm>
              <a:off x="6410160" y="467028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40400" y="467028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6200000">
              <a:off x="6458040" y="466992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108400" y="895320"/>
            <a:ext cx="744840" cy="176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81600" y="4670280"/>
            <a:ext cx="114840" cy="114840"/>
            <a:chOff x="5781600" y="4670280"/>
            <a:chExt cx="114840" cy="114840"/>
          </a:xfrm>
        </p:grpSpPr>
        <p:sp>
          <p:nvSpPr>
            <p:cNvPr id="309" name=""/>
            <p:cNvSpPr/>
            <p:nvPr/>
          </p:nvSpPr>
          <p:spPr>
            <a:xfrm>
              <a:off x="5781600" y="467028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11840" y="467028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5829480" y="466992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729400" y="1127160"/>
            <a:ext cx="114840" cy="114840"/>
            <a:chOff x="5729400" y="1127160"/>
            <a:chExt cx="114840" cy="114840"/>
          </a:xfrm>
        </p:grpSpPr>
        <p:sp>
          <p:nvSpPr>
            <p:cNvPr id="313" name=""/>
            <p:cNvSpPr/>
            <p:nvPr/>
          </p:nvSpPr>
          <p:spPr>
            <a:xfrm>
              <a:off x="5729400" y="112716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59640" y="112716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5777280" y="112680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7953480" y="3160800"/>
            <a:ext cx="114840" cy="114840"/>
            <a:chOff x="7953480" y="3160800"/>
            <a:chExt cx="114840" cy="114840"/>
          </a:xfrm>
        </p:grpSpPr>
        <p:sp>
          <p:nvSpPr>
            <p:cNvPr id="317" name=""/>
            <p:cNvSpPr/>
            <p:nvPr/>
          </p:nvSpPr>
          <p:spPr>
            <a:xfrm>
              <a:off x="7953480" y="316080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83720" y="316080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8001360" y="316044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948440" y="2298600"/>
            <a:ext cx="114840" cy="114840"/>
            <a:chOff x="7948440" y="2298600"/>
            <a:chExt cx="114840" cy="114840"/>
          </a:xfrm>
        </p:grpSpPr>
        <p:sp>
          <p:nvSpPr>
            <p:cNvPr id="321" name=""/>
            <p:cNvSpPr/>
            <p:nvPr/>
          </p:nvSpPr>
          <p:spPr>
            <a:xfrm>
              <a:off x="7948440" y="229860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78680" y="229860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200000">
              <a:off x="7996320" y="229824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7948440" y="2028960"/>
            <a:ext cx="114840" cy="114840"/>
            <a:chOff x="7948440" y="2028960"/>
            <a:chExt cx="114840" cy="114840"/>
          </a:xfrm>
        </p:grpSpPr>
        <p:sp>
          <p:nvSpPr>
            <p:cNvPr id="325" name=""/>
            <p:cNvSpPr/>
            <p:nvPr/>
          </p:nvSpPr>
          <p:spPr>
            <a:xfrm>
              <a:off x="7948440" y="202896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78680" y="202896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6200000">
              <a:off x="7996320" y="202860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7932600" y="1166760"/>
            <a:ext cx="114840" cy="114840"/>
            <a:chOff x="7932600" y="1166760"/>
            <a:chExt cx="114840" cy="114840"/>
          </a:xfrm>
        </p:grpSpPr>
        <p:sp>
          <p:nvSpPr>
            <p:cNvPr id="329" name=""/>
            <p:cNvSpPr/>
            <p:nvPr/>
          </p:nvSpPr>
          <p:spPr>
            <a:xfrm>
              <a:off x="7932600" y="116676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62840" y="116676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7980480" y="116640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2898720" y="3279600"/>
            <a:ext cx="747720" cy="397080"/>
            <a:chOff x="2898720" y="3279600"/>
            <a:chExt cx="747720" cy="397080"/>
          </a:xfrm>
        </p:grpSpPr>
        <p:grpSp>
          <p:nvGrpSpPr>
            <p:cNvPr id="333" name=""/>
            <p:cNvGrpSpPr/>
            <p:nvPr/>
          </p:nvGrpSpPr>
          <p:grpSpPr>
            <a:xfrm>
              <a:off x="2898720" y="3279600"/>
              <a:ext cx="747720" cy="397080"/>
              <a:chOff x="2898720" y="3279600"/>
              <a:chExt cx="747720" cy="397080"/>
            </a:xfrm>
          </p:grpSpPr>
          <p:sp>
            <p:nvSpPr>
              <p:cNvPr id="334" name=""/>
              <p:cNvSpPr/>
              <p:nvPr/>
            </p:nvSpPr>
            <p:spPr>
              <a:xfrm>
                <a:off x="2898720" y="3279600"/>
                <a:ext cx="747720" cy="3970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898720" y="3279600"/>
                <a:ext cx="747720" cy="3970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2954880" y="3476520"/>
              <a:ext cx="63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aatschappelijk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16160" y="3549600"/>
              <a:ext cx="313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ctivitei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23280" y="3324240"/>
              <a:ext cx="498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ndernem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7372440" y="108900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53360" y="50925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86080" y="97164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86080" y="75564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97280" y="976320"/>
            <a:ext cx="69696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61080" y="1136520"/>
            <a:ext cx="29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verba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72240" y="1041480"/>
            <a:ext cx="235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iens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125880" y="566640"/>
            <a:ext cx="503280" cy="260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32440" y="689040"/>
            <a:ext cx="33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42160" y="593640"/>
            <a:ext cx="189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o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54400" y="328608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54400" y="268920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"/>
          <p:cNvCxnSpPr>
            <a:stCxn id="347" idx="4"/>
            <a:endCxn id="346" idx="0"/>
          </p:cNvCxnSpPr>
          <p:nvPr/>
        </p:nvCxnSpPr>
        <p:spPr>
          <a:xfrm flipV="1" rot="10800000">
            <a:off x="3290040" y="2760480"/>
            <a:ext cx="1080" cy="5259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2927520" y="328140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27520" y="268920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24760" y="941400"/>
            <a:ext cx="28152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erce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46200" y="1119240"/>
            <a:ext cx="57384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eidingnetwer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732640" y="949320"/>
            <a:ext cx="114480" cy="114840"/>
            <a:chOff x="5732640" y="949320"/>
            <a:chExt cx="114480" cy="114840"/>
          </a:xfrm>
        </p:grpSpPr>
        <p:sp>
          <p:nvSpPr>
            <p:cNvPr id="352" name=""/>
            <p:cNvSpPr/>
            <p:nvPr/>
          </p:nvSpPr>
          <p:spPr>
            <a:xfrm>
              <a:off x="5732640" y="949320"/>
              <a:ext cx="11448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62880" y="94932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6200000">
              <a:off x="5780160" y="948960"/>
              <a:ext cx="19080" cy="1144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3954600" y="1987560"/>
            <a:ext cx="2112840" cy="87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09960" y="1954080"/>
            <a:ext cx="2098800" cy="871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13720" y="1968480"/>
            <a:ext cx="29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08720" y="256392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38640" y="2319480"/>
            <a:ext cx="69696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40440" y="2324160"/>
            <a:ext cx="696960" cy="31752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68960" y="2440080"/>
            <a:ext cx="43668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WOZ obj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63" idx="0"/>
          </p:cNvCxnSpPr>
          <p:nvPr/>
        </p:nvCxnSpPr>
        <p:spPr>
          <a:xfrm flipV="1" rot="16200000">
            <a:off x="3551040" y="1775880"/>
            <a:ext cx="707040" cy="389520"/>
          </a:xfrm>
          <a:prstGeom prst="bentConnector3">
            <a:avLst>
              <a:gd name="adj1" fmla="val 100407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cxnSp>
        <p:nvCxnSpPr>
          <p:cNvPr id="364" name=""/>
          <p:cNvCxnSpPr>
            <a:stCxn id="360" idx="3"/>
            <a:endCxn id="122" idx="1"/>
          </p:cNvCxnSpPr>
          <p:nvPr/>
        </p:nvCxnSpPr>
        <p:spPr>
          <a:xfrm>
            <a:off x="5837400" y="2482920"/>
            <a:ext cx="1513440" cy="3180240"/>
          </a:xfrm>
          <a:prstGeom prst="bentConnector3">
            <a:avLst>
              <a:gd name="adj1" fmla="val 66095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6079680" y="2506680"/>
            <a:ext cx="107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"/>
          <p:cNvCxnSpPr>
            <a:stCxn id="367" idx="4"/>
            <a:endCxn id="129" idx="2"/>
          </p:cNvCxnSpPr>
          <p:nvPr/>
        </p:nvCxnSpPr>
        <p:spPr>
          <a:xfrm flipH="1" rot="16200000">
            <a:off x="4181400" y="3641400"/>
            <a:ext cx="2115360" cy="10872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368" name=""/>
          <p:cNvSpPr/>
          <p:nvPr/>
        </p:nvSpPr>
        <p:spPr>
          <a:xfrm>
            <a:off x="5243040" y="288144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140440" y="253692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"/>
          <p:cNvCxnSpPr>
            <a:endCxn id="370" idx="0"/>
          </p:cNvCxnSpPr>
          <p:nvPr/>
        </p:nvCxnSpPr>
        <p:spPr>
          <a:xfrm>
            <a:off x="2881080" y="1734840"/>
            <a:ext cx="1307160" cy="586440"/>
          </a:xfrm>
          <a:prstGeom prst="bentConnector2">
            <a:avLst/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sp>
        <p:nvSpPr>
          <p:cNvPr id="371" name=""/>
          <p:cNvSpPr/>
          <p:nvPr/>
        </p:nvSpPr>
        <p:spPr>
          <a:xfrm>
            <a:off x="5308560" y="232092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00600" y="2341440"/>
            <a:ext cx="88920" cy="10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"/>
          <p:cNvCxnSpPr>
            <a:stCxn id="273" idx="2"/>
            <a:endCxn id="360" idx="0"/>
          </p:cNvCxnSpPr>
          <p:nvPr/>
        </p:nvCxnSpPr>
        <p:spPr>
          <a:xfrm flipV="1" rot="10800000">
            <a:off x="5488920" y="1353600"/>
            <a:ext cx="1080" cy="970920"/>
          </a:xfrm>
          <a:prstGeom prst="bentConnector2">
            <a:avLst/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5523120" y="1868400"/>
            <a:ext cx="133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OZK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"/>
          <p:cNvCxnSpPr>
            <a:stCxn id="376" idx="6"/>
            <a:endCxn id="377" idx="3"/>
          </p:cNvCxnSpPr>
          <p:nvPr/>
        </p:nvCxnSpPr>
        <p:spPr>
          <a:xfrm>
            <a:off x="4540320" y="1250640"/>
            <a:ext cx="2160" cy="1230840"/>
          </a:xfrm>
          <a:prstGeom prst="bentConnector3">
            <a:avLst>
              <a:gd name="adj1" fmla="val 14500000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5576760" y="253692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51400" y="120024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32480" y="248760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16280" y="239220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"/>
          <p:cNvCxnSpPr>
            <a:stCxn id="378" idx="4"/>
            <a:endCxn id="238" idx="0"/>
          </p:cNvCxnSpPr>
          <p:nvPr/>
        </p:nvCxnSpPr>
        <p:spPr>
          <a:xfrm flipH="1" rot="16200000">
            <a:off x="5434920" y="2824560"/>
            <a:ext cx="1008720" cy="635760"/>
          </a:xfrm>
          <a:prstGeom prst="bentConnector3">
            <a:avLst>
              <a:gd name="adj1" fmla="val 49910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5660640" y="288288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702400" y="2511360"/>
            <a:ext cx="114840" cy="114840"/>
            <a:chOff x="5702400" y="2511360"/>
            <a:chExt cx="114840" cy="114840"/>
          </a:xfrm>
        </p:grpSpPr>
        <p:sp>
          <p:nvSpPr>
            <p:cNvPr id="384" name=""/>
            <p:cNvSpPr/>
            <p:nvPr/>
          </p:nvSpPr>
          <p:spPr>
            <a:xfrm>
              <a:off x="5702400" y="251136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32640" y="251136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5750280" y="251100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4467240" y="249228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122720" y="255888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56120" y="255888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63960" y="2319480"/>
            <a:ext cx="57780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3960" y="2322360"/>
            <a:ext cx="577800" cy="31752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20200" y="2436840"/>
            <a:ext cx="26604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ela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122720" y="2378160"/>
            <a:ext cx="360" cy="274680"/>
          </a:xfrm>
          <a:custGeom>
            <a:avLst/>
            <a:gdLst/>
            <a:ahLst/>
            <a:rect l="l" t="t" r="r" b="b"/>
            <a:pathLst>
              <a:path w="21600" h="8251200">
                <a:moveTo>
                  <a:pt x="3600" y="0"/>
                </a:moveTo>
                <a:arcTo wR="3600" hR="3600" stAng="16200000" swAng="-5400000"/>
                <a:lnTo>
                  <a:pt x="0" y="8247600"/>
                </a:lnTo>
                <a:arcTo wR="3600" hR="3600" stAng="10800000" swAng="-5400000"/>
                <a:lnTo>
                  <a:pt x="18000" y="8251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44920" y="254016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>
            <a:stCxn id="395" idx="6"/>
            <a:endCxn id="367" idx="2"/>
          </p:cNvCxnSpPr>
          <p:nvPr/>
        </p:nvCxnSpPr>
        <p:spPr>
          <a:xfrm>
            <a:off x="4539960" y="2587320"/>
            <a:ext cx="600840" cy="108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4451400" y="253692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143240" y="232092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54320" y="232416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45040" y="1187280"/>
            <a:ext cx="88920" cy="10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54320" y="1190520"/>
            <a:ext cx="88920" cy="10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216680" y="185436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44880" y="184788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8120" y="440208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"/>
          <p:cNvCxnSpPr/>
          <p:nvPr/>
        </p:nvCxnSpPr>
        <p:spPr>
          <a:xfrm flipH="1" flipV="1" rot="5400000">
            <a:off x="3054600" y="1190880"/>
            <a:ext cx="1032480" cy="1227960"/>
          </a:xfrm>
          <a:prstGeom prst="bentConnector3">
            <a:avLst>
              <a:gd name="adj1" fmla="val 56888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77" idx="1"/>
            <a:endCxn id="335" idx="3"/>
          </p:cNvCxnSpPr>
          <p:nvPr/>
        </p:nvCxnSpPr>
        <p:spPr>
          <a:xfrm flipV="1" rot="10800000">
            <a:off x="3646440" y="2480760"/>
            <a:ext cx="317880" cy="997920"/>
          </a:xfrm>
          <a:prstGeom prst="bentConnector3">
            <a:avLst>
              <a:gd name="adj1" fmla="val 50000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22BA-6FC4-4C15-AB29-4F964F0E40A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Z in het stelse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908000" y="1628640"/>
            <a:ext cx="5759280" cy="4870440"/>
            <a:chOff x="1908000" y="1628640"/>
            <a:chExt cx="5759280" cy="4870440"/>
          </a:xfrm>
        </p:grpSpPr>
        <p:sp>
          <p:nvSpPr>
            <p:cNvPr id="402" name=""/>
            <p:cNvSpPr/>
            <p:nvPr/>
          </p:nvSpPr>
          <p:spPr>
            <a:xfrm>
              <a:off x="4055040" y="434772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99120" y="392940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08000" y="3080160"/>
              <a:ext cx="1466280" cy="793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71520" y="4493520"/>
              <a:ext cx="827280" cy="2005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44520" y="4474440"/>
              <a:ext cx="827280" cy="20026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44520" y="4473000"/>
              <a:ext cx="827280" cy="20041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21200" y="4517640"/>
              <a:ext cx="52020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27360" y="3198600"/>
              <a:ext cx="623880" cy="706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03240" y="3182760"/>
              <a:ext cx="623880" cy="7059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03240" y="3182760"/>
              <a:ext cx="623880" cy="705960"/>
            </a:xfrm>
            <a:prstGeom prst="rect">
              <a:avLst/>
            </a:prstGeom>
            <a:solidFill>
              <a:srgbClr val="99ff66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1920" y="3185280"/>
              <a:ext cx="38808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B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90200" y="3204000"/>
              <a:ext cx="749160" cy="2070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56720" y="3182760"/>
              <a:ext cx="749160" cy="207072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56720" y="3182760"/>
              <a:ext cx="749160" cy="2070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36000" y="3185280"/>
              <a:ext cx="47016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03680" y="4494600"/>
              <a:ext cx="1260000" cy="124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76680" y="4474440"/>
              <a:ext cx="1258920" cy="12466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6680" y="4474440"/>
              <a:ext cx="1258920" cy="12466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34720" y="4582440"/>
              <a:ext cx="39492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G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35960" y="4814280"/>
              <a:ext cx="489240" cy="269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35960" y="4814280"/>
              <a:ext cx="489240" cy="26928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94280" y="4895280"/>
              <a:ext cx="365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Woonplaat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58560" y="1665000"/>
              <a:ext cx="1806120" cy="813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30120" y="1636560"/>
              <a:ext cx="1792440" cy="820800"/>
            </a:xfrm>
            <a:prstGeom prst="rect">
              <a:avLst/>
            </a:prstGeom>
            <a:solidFill>
              <a:srgbClr val="66ff66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35520" y="1628640"/>
              <a:ext cx="41508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"/>
            <p:cNvCxnSpPr>
              <a:stCxn id="428" idx="2"/>
              <a:endCxn id="429" idx="0"/>
            </p:cNvCxnSpPr>
            <p:nvPr/>
          </p:nvCxnSpPr>
          <p:spPr>
            <a:xfrm>
              <a:off x="6978600" y="6000480"/>
              <a:ext cx="1800" cy="110880"/>
            </a:xfrm>
            <a:prstGeom prst="straightConnector1">
              <a:avLst/>
            </a:prstGeom>
            <a:ln w="19080">
              <a:solidFill>
                <a:srgbClr val="0066cc"/>
              </a:solidFill>
              <a:miter/>
            </a:ln>
          </p:spPr>
        </p:cxnSp>
        <p:cxnSp>
          <p:nvCxnSpPr>
            <p:cNvPr id="430" name=""/>
            <p:cNvCxnSpPr>
              <a:stCxn id="422" idx="2"/>
              <a:endCxn id="428" idx="0"/>
            </p:cNvCxnSpPr>
            <p:nvPr/>
          </p:nvCxnSpPr>
          <p:spPr>
            <a:xfrm flipH="1">
              <a:off x="6978240" y="5083200"/>
              <a:ext cx="3240" cy="647640"/>
            </a:xfrm>
            <a:prstGeom prst="straightConnector1">
              <a:avLst/>
            </a:prstGeom>
            <a:ln w="19080">
              <a:solidFill>
                <a:srgbClr val="0066cc"/>
              </a:solidFill>
              <a:miter/>
            </a:ln>
          </p:spPr>
        </p:cxnSp>
        <p:cxnSp>
          <p:nvCxnSpPr>
            <p:cNvPr id="431" name=""/>
            <p:cNvCxnSpPr>
              <a:stCxn id="422" idx="3"/>
              <a:endCxn id="429" idx="3"/>
            </p:cNvCxnSpPr>
            <p:nvPr/>
          </p:nvCxnSpPr>
          <p:spPr>
            <a:xfrm flipH="1">
              <a:off x="7220520" y="4948920"/>
              <a:ext cx="4680" cy="1305360"/>
            </a:xfrm>
            <a:prstGeom prst="bentConnector3">
              <a:avLst>
                <a:gd name="adj1" fmla="val -4800000"/>
              </a:avLst>
            </a:prstGeom>
            <a:ln w="19080">
              <a:solidFill>
                <a:srgbClr val="0066cc"/>
              </a:solidFill>
              <a:miter/>
            </a:ln>
          </p:spPr>
        </p:cxnSp>
        <p:sp>
          <p:nvSpPr>
            <p:cNvPr id="432" name=""/>
            <p:cNvSpPr/>
            <p:nvPr/>
          </p:nvSpPr>
          <p:spPr>
            <a:xfrm>
              <a:off x="5279040" y="558648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48200" y="618912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12400" y="504612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12400" y="477252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6" name=""/>
            <p:cNvCxnSpPr>
              <a:stCxn id="437" idx="4"/>
              <a:endCxn id="435" idx="0"/>
            </p:cNvCxnSpPr>
            <p:nvPr/>
          </p:nvCxnSpPr>
          <p:spPr>
            <a:xfrm flipV="1" rot="10800000">
              <a:off x="3842640" y="4563000"/>
              <a:ext cx="1080" cy="20952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</a:ln>
          </p:spPr>
        </p:cxnSp>
        <p:sp>
          <p:nvSpPr>
            <p:cNvPr id="437" name=""/>
            <p:cNvSpPr/>
            <p:nvPr/>
          </p:nvSpPr>
          <p:spPr>
            <a:xfrm>
              <a:off x="3812400" y="450288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06040" y="220680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95520" y="226332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38640" y="226332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17080" y="518364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18800" y="524700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18800" y="474696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14200" y="3198600"/>
              <a:ext cx="623880" cy="706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96920" y="3186720"/>
              <a:ext cx="623880" cy="7059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95480" y="3182760"/>
              <a:ext cx="623880" cy="7059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89520" y="3178440"/>
              <a:ext cx="385560" cy="145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N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2041200" y="3418560"/>
              <a:ext cx="538920" cy="370440"/>
              <a:chOff x="2041200" y="3418560"/>
              <a:chExt cx="538920" cy="370440"/>
            </a:xfrm>
          </p:grpSpPr>
          <p:sp>
            <p:nvSpPr>
              <p:cNvPr id="449" name=""/>
              <p:cNvSpPr/>
              <p:nvPr/>
            </p:nvSpPr>
            <p:spPr>
              <a:xfrm>
                <a:off x="2041200" y="3418560"/>
                <a:ext cx="538920" cy="3704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41200" y="3418560"/>
                <a:ext cx="538920" cy="37044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2238120" y="3492720"/>
              <a:ext cx="15084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Niet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47760" y="3600360"/>
              <a:ext cx="34488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Ingezeten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758320" y="3418560"/>
              <a:ext cx="538920" cy="370440"/>
              <a:chOff x="2758320" y="3418560"/>
              <a:chExt cx="538920" cy="370440"/>
            </a:xfrm>
          </p:grpSpPr>
          <p:sp>
            <p:nvSpPr>
              <p:cNvPr id="454" name=""/>
              <p:cNvSpPr/>
              <p:nvPr/>
            </p:nvSpPr>
            <p:spPr>
              <a:xfrm>
                <a:off x="2758320" y="3418560"/>
                <a:ext cx="538920" cy="3704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758320" y="3418560"/>
                <a:ext cx="538920" cy="37044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2863440" y="3496680"/>
              <a:ext cx="3340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Ingezeten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3510360" y="3418560"/>
              <a:ext cx="634680" cy="370440"/>
              <a:chOff x="3510360" y="3418560"/>
              <a:chExt cx="634680" cy="370440"/>
            </a:xfrm>
          </p:grpSpPr>
          <p:sp>
            <p:nvSpPr>
              <p:cNvPr id="458" name=""/>
              <p:cNvSpPr/>
              <p:nvPr/>
            </p:nvSpPr>
            <p:spPr>
              <a:xfrm>
                <a:off x="3510360" y="3418560"/>
                <a:ext cx="634680" cy="3704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510360" y="3418560"/>
                <a:ext cx="634680" cy="37044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688560" y="3442680"/>
              <a:ext cx="297720" cy="293400"/>
              <a:chOff x="3688560" y="3442680"/>
              <a:chExt cx="297720" cy="293400"/>
            </a:xfrm>
          </p:grpSpPr>
          <p:sp>
            <p:nvSpPr>
              <p:cNvPr id="461" name=""/>
              <p:cNvSpPr/>
              <p:nvPr/>
            </p:nvSpPr>
            <p:spPr>
              <a:xfrm>
                <a:off x="3781440" y="3442680"/>
                <a:ext cx="122400" cy="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Niet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688560" y="3550320"/>
                <a:ext cx="2977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Natuurlijk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729960" y="3657960"/>
                <a:ext cx="254880" cy="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persoon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3510360" y="4772520"/>
              <a:ext cx="649440" cy="336960"/>
              <a:chOff x="3510360" y="4772520"/>
              <a:chExt cx="649440" cy="336960"/>
            </a:xfrm>
          </p:grpSpPr>
          <p:sp>
            <p:nvSpPr>
              <p:cNvPr id="465" name=""/>
              <p:cNvSpPr/>
              <p:nvPr/>
            </p:nvSpPr>
            <p:spPr>
              <a:xfrm>
                <a:off x="3510360" y="4772520"/>
                <a:ext cx="649440" cy="33696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510360" y="4772520"/>
                <a:ext cx="649440" cy="33696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3714120" y="4897800"/>
              <a:ext cx="289440" cy="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Vestiging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6735960" y="5730840"/>
              <a:ext cx="484920" cy="269280"/>
              <a:chOff x="6735960" y="5730840"/>
              <a:chExt cx="484920" cy="269280"/>
            </a:xfrm>
          </p:grpSpPr>
          <p:sp>
            <p:nvSpPr>
              <p:cNvPr id="469" name=""/>
              <p:cNvSpPr/>
              <p:nvPr/>
            </p:nvSpPr>
            <p:spPr>
              <a:xfrm>
                <a:off x="6735960" y="5730840"/>
                <a:ext cx="484920" cy="2692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735960" y="5730840"/>
                <a:ext cx="484920" cy="2692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6842520" y="5765760"/>
              <a:ext cx="301680" cy="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penbar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92560" y="5873760"/>
              <a:ext cx="19800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ruimt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6737400" y="6111000"/>
              <a:ext cx="483840" cy="285480"/>
              <a:chOff x="6737400" y="6111000"/>
              <a:chExt cx="483840" cy="285480"/>
            </a:xfrm>
          </p:grpSpPr>
          <p:sp>
            <p:nvSpPr>
              <p:cNvPr id="473" name=""/>
              <p:cNvSpPr/>
              <p:nvPr/>
            </p:nvSpPr>
            <p:spPr>
              <a:xfrm>
                <a:off x="6737400" y="6111000"/>
                <a:ext cx="483840" cy="2854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737400" y="6111000"/>
                <a:ext cx="483840" cy="2854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6846840" y="6171480"/>
              <a:ext cx="285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Nummer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834600" y="6253920"/>
              <a:ext cx="34200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anduiding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4625280" y="5182200"/>
              <a:ext cx="1161720" cy="471600"/>
              <a:chOff x="4625280" y="5182200"/>
              <a:chExt cx="1161720" cy="471600"/>
            </a:xfrm>
          </p:grpSpPr>
          <p:sp>
            <p:nvSpPr>
              <p:cNvPr id="477" name=""/>
              <p:cNvSpPr/>
              <p:nvPr/>
            </p:nvSpPr>
            <p:spPr>
              <a:xfrm>
                <a:off x="4625280" y="5182200"/>
                <a:ext cx="1161720" cy="4716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625280" y="5182200"/>
                <a:ext cx="1161720" cy="47160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4844880" y="5543280"/>
              <a:ext cx="66420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dresseerbaar objec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73880" y="5249520"/>
              <a:ext cx="483840" cy="269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73880" y="5249520"/>
              <a:ext cx="483840" cy="26928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28960" y="5276520"/>
              <a:ext cx="384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Standplaats,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35800" y="5384520"/>
              <a:ext cx="282960" cy="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igplaat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5206320" y="5249520"/>
              <a:ext cx="483840" cy="269280"/>
              <a:chOff x="5206320" y="5249520"/>
              <a:chExt cx="483840" cy="269280"/>
            </a:xfrm>
          </p:grpSpPr>
          <p:sp>
            <p:nvSpPr>
              <p:cNvPr id="485" name=""/>
              <p:cNvSpPr/>
              <p:nvPr/>
            </p:nvSpPr>
            <p:spPr>
              <a:xfrm>
                <a:off x="5206320" y="5249520"/>
                <a:ext cx="483840" cy="2692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06320" y="5249520"/>
                <a:ext cx="483840" cy="2692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5306040" y="5276520"/>
              <a:ext cx="276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500" spc="-1" strike="noStrike">
                  <a:solidFill>
                    <a:srgbClr val="000000"/>
                  </a:solidFill>
                  <a:latin typeface="Arial"/>
                </a:rPr>
                <a:t>Verblijfs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62560" y="5384520"/>
              <a:ext cx="190080" cy="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5206320" y="4541760"/>
              <a:ext cx="490680" cy="269280"/>
              <a:chOff x="5206320" y="4541760"/>
              <a:chExt cx="490680" cy="269280"/>
            </a:xfrm>
          </p:grpSpPr>
          <p:sp>
            <p:nvSpPr>
              <p:cNvPr id="490" name=""/>
              <p:cNvSpPr/>
              <p:nvPr/>
            </p:nvSpPr>
            <p:spPr>
              <a:xfrm>
                <a:off x="5206320" y="4541760"/>
                <a:ext cx="490680" cy="2692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206320" y="4541760"/>
                <a:ext cx="490680" cy="2692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393520" y="4622760"/>
              <a:ext cx="157680" cy="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an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21040" y="3396960"/>
              <a:ext cx="1292400" cy="41364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95560" y="372708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21040" y="3094920"/>
              <a:ext cx="569880" cy="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Natuurlijk perso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78720" y="2059920"/>
              <a:ext cx="490320" cy="269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78720" y="2062440"/>
              <a:ext cx="490320" cy="26928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43240" y="2178360"/>
              <a:ext cx="19116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Rech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09400" y="2105640"/>
              <a:ext cx="24768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Zakelij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0" name=""/>
            <p:cNvCxnSpPr>
              <a:stCxn id="501" idx="0"/>
            </p:cNvCxnSpPr>
            <p:nvPr/>
          </p:nvCxnSpPr>
          <p:spPr>
            <a:xfrm flipH="1" flipV="1" rot="5400000">
              <a:off x="3642840" y="2181960"/>
              <a:ext cx="1155600" cy="131472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502" name=""/>
            <p:cNvCxnSpPr>
              <a:stCxn id="503" idx="0"/>
            </p:cNvCxnSpPr>
            <p:nvPr/>
          </p:nvCxnSpPr>
          <p:spPr>
            <a:xfrm flipH="1" flipV="1" rot="5400000">
              <a:off x="3145680" y="1661760"/>
              <a:ext cx="1254240" cy="221076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sp>
          <p:nvSpPr>
            <p:cNvPr id="504" name=""/>
            <p:cNvSpPr/>
            <p:nvPr/>
          </p:nvSpPr>
          <p:spPr>
            <a:xfrm>
              <a:off x="5818320" y="220680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51240" y="230652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18320" y="1658160"/>
              <a:ext cx="699480" cy="719640"/>
            </a:xfrm>
            <a:custGeom>
              <a:avLst/>
              <a:gdLst>
                <a:gd name="textAreaLeft" fmla="*/ 33840 w 699480"/>
                <a:gd name="textAreaRight" fmla="*/ 665640 w 699480"/>
                <a:gd name="textAreaTop" fmla="*/ 33840 h 719640"/>
                <a:gd name="textAreaBottom" fmla="*/ 685800 h 719640"/>
              </a:gdLst>
              <a:ahLst/>
              <a:rect l="textAreaLeft" t="textAreaTop" r="textAreaRight" b="textAreaBottom"/>
              <a:pathLst>
                <a:path w="21600" h="22222">
                  <a:moveTo>
                    <a:pt x="3600" y="0"/>
                  </a:moveTo>
                  <a:arcTo wR="3600" hR="3600" stAng="16200000" swAng="-5400000"/>
                  <a:lnTo>
                    <a:pt x="0" y="18622"/>
                  </a:lnTo>
                  <a:arcTo wR="3600" hR="3600" stAng="10800000" swAng="-5400000"/>
                  <a:lnTo>
                    <a:pt x="18000" y="222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1671480"/>
              <a:ext cx="525600" cy="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nroerende zaa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8" name=""/>
            <p:cNvCxnSpPr>
              <a:stCxn id="438" idx="6"/>
              <a:endCxn id="504" idx="2"/>
            </p:cNvCxnSpPr>
            <p:nvPr/>
          </p:nvCxnSpPr>
          <p:spPr>
            <a:xfrm>
              <a:off x="5366520" y="2237400"/>
              <a:ext cx="452160" cy="108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</a:ln>
          </p:spPr>
        </p:cxnSp>
        <p:sp>
          <p:nvSpPr>
            <p:cNvPr id="509" name=""/>
            <p:cNvSpPr/>
            <p:nvPr/>
          </p:nvSpPr>
          <p:spPr>
            <a:xfrm>
              <a:off x="5845320" y="1779480"/>
              <a:ext cx="631800" cy="207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67760" y="252216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68400" y="218376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45320" y="2140560"/>
              <a:ext cx="631800" cy="149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25960" y="1798200"/>
              <a:ext cx="453960" cy="1738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500" spc="-1" strike="noStrike">
                  <a:solidFill>
                    <a:srgbClr val="000000"/>
                  </a:solidFill>
                  <a:latin typeface="Arial"/>
                </a:rPr>
                <a:t>Appartement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500" spc="-1" strike="noStrike">
                  <a:solidFill>
                    <a:srgbClr val="000000"/>
                  </a:solidFill>
                  <a:latin typeface="Arial"/>
                </a:rPr>
                <a:t>rech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37000" y="339408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68000" y="375408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29200" y="245196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57320" y="215280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7" name=""/>
            <p:cNvCxnSpPr>
              <a:stCxn id="443" idx="4"/>
              <a:endCxn id="442" idx="0"/>
            </p:cNvCxnSpPr>
            <p:nvPr/>
          </p:nvCxnSpPr>
          <p:spPr>
            <a:xfrm flipV="1" rot="10800000">
              <a:off x="5549400" y="4807080"/>
              <a:ext cx="1080" cy="43992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</a:ln>
          </p:spPr>
        </p:cxnSp>
        <p:sp>
          <p:nvSpPr>
            <p:cNvPr id="518" name=""/>
            <p:cNvSpPr/>
            <p:nvPr/>
          </p:nvSpPr>
          <p:spPr>
            <a:xfrm>
              <a:off x="4633200" y="545040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33400" y="341712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90440" y="4702320"/>
              <a:ext cx="9828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616000" y="4702320"/>
              <a:ext cx="21600" cy="979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6200000">
              <a:off x="5632200" y="4701960"/>
              <a:ext cx="14760" cy="982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45320" y="1988280"/>
              <a:ext cx="631800" cy="149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510360" y="4230720"/>
              <a:ext cx="634680" cy="336960"/>
              <a:chOff x="3510360" y="4230720"/>
              <a:chExt cx="634680" cy="336960"/>
            </a:xfrm>
          </p:grpSpPr>
          <p:sp>
            <p:nvSpPr>
              <p:cNvPr id="524" name=""/>
              <p:cNvSpPr/>
              <p:nvPr/>
            </p:nvSpPr>
            <p:spPr>
              <a:xfrm>
                <a:off x="3510360" y="4230720"/>
                <a:ext cx="634680" cy="33696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510360" y="4230720"/>
                <a:ext cx="634680" cy="33696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3560400" y="4397760"/>
              <a:ext cx="536400" cy="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Maatschappelijk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96480" y="4459680"/>
              <a:ext cx="262440" cy="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ctivitei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18360" y="4268520"/>
              <a:ext cx="419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nderneming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29200" y="237096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740280" y="577008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12400" y="423612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812400" y="372960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3" name=""/>
            <p:cNvCxnSpPr>
              <a:stCxn id="532" idx="4"/>
              <a:endCxn id="531" idx="0"/>
            </p:cNvCxnSpPr>
            <p:nvPr/>
          </p:nvCxnSpPr>
          <p:spPr>
            <a:xfrm flipV="1" rot="10800000">
              <a:off x="3842640" y="3790080"/>
              <a:ext cx="1080" cy="446040"/>
            </a:xfrm>
            <a:prstGeom prst="bentConnector2">
              <a:avLst/>
            </a:prstGeom>
            <a:ln w="19080">
              <a:solidFill>
                <a:srgbClr val="3333cc"/>
              </a:solidFill>
              <a:miter/>
            </a:ln>
          </p:spPr>
        </p:cxnSp>
        <p:sp>
          <p:nvSpPr>
            <p:cNvPr id="534" name=""/>
            <p:cNvSpPr/>
            <p:nvPr/>
          </p:nvSpPr>
          <p:spPr>
            <a:xfrm>
              <a:off x="3534840" y="423180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34840" y="372960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28560" y="2027520"/>
              <a:ext cx="24264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ercee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80240" y="2178360"/>
              <a:ext cx="48384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eidingnetwer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948920" y="3134160"/>
              <a:ext cx="1753560" cy="90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921920" y="3111120"/>
              <a:ext cx="1753560" cy="9014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21920" y="3111120"/>
              <a:ext cx="1745640" cy="8935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935240" y="3105720"/>
              <a:ext cx="42156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O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3036240" y="2982960"/>
              <a:ext cx="0" cy="185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36240" y="2982960"/>
              <a:ext cx="1423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7600" y="2975040"/>
              <a:ext cx="0" cy="711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05880" y="4451760"/>
              <a:ext cx="2588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4467600" y="3808080"/>
              <a:ext cx="0" cy="63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67600" y="3816000"/>
              <a:ext cx="574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465080" y="3692160"/>
              <a:ext cx="582120" cy="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13600" y="3305160"/>
              <a:ext cx="70596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is belang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hebben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gebruik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082560" y="3861720"/>
              <a:ext cx="7920" cy="1042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626800" y="6300720"/>
              <a:ext cx="110772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6405840" y="3862080"/>
              <a:ext cx="0" cy="1438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1640" y="4046760"/>
              <a:ext cx="75348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maakt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onderde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uit va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74880" y="4019760"/>
              <a:ext cx="88956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i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aanduid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va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235920" y="2365560"/>
              <a:ext cx="0" cy="881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57160" y="374076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60880" y="3618000"/>
              <a:ext cx="591480" cy="269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52600" y="3618000"/>
              <a:ext cx="591480" cy="26928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212800" y="3709440"/>
              <a:ext cx="21420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elang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207840" y="2559960"/>
              <a:ext cx="72900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maakt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onderde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uit va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23440" y="3243240"/>
              <a:ext cx="648000" cy="649440"/>
            </a:xfrm>
            <a:custGeom>
              <a:avLst/>
              <a:gdLst>
                <a:gd name="textAreaLeft" fmla="*/ 31320 w 648000"/>
                <a:gd name="textAreaRight" fmla="*/ 616680 w 648000"/>
                <a:gd name="textAreaTop" fmla="*/ 31320 h 649440"/>
                <a:gd name="textAreaBottom" fmla="*/ 618120 h 649440"/>
              </a:gdLst>
              <a:ahLst/>
              <a:rect l="textAreaLeft" t="textAreaTop" r="textAreaRight" b="textAreaBottom"/>
              <a:pathLst>
                <a:path w="21600" h="21648">
                  <a:moveTo>
                    <a:pt x="3600" y="0"/>
                  </a:moveTo>
                  <a:arcTo wR="3600" hR="3600" stAng="16200000" swAng="-5400000"/>
                  <a:lnTo>
                    <a:pt x="0" y="18048"/>
                  </a:lnTo>
                  <a:arcTo wR="3600" hR="3600" stAng="10800000" swAng="-5400000"/>
                  <a:lnTo>
                    <a:pt x="18000" y="216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15160" y="3251160"/>
              <a:ext cx="656280" cy="63360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91920" y="3473640"/>
              <a:ext cx="389520" cy="87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WOZ objec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842440" y="4907160"/>
              <a:ext cx="242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648400" y="3751200"/>
              <a:ext cx="2584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27280" y="3812040"/>
              <a:ext cx="7948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is belang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hebben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gebruik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244120" y="2336040"/>
              <a:ext cx="7920" cy="1277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26480" y="2581200"/>
              <a:ext cx="98388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bepaal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belanghebben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eigena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08920" y="3251160"/>
              <a:ext cx="526680" cy="237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92720" y="3251160"/>
              <a:ext cx="534960" cy="24516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38160" y="3333600"/>
              <a:ext cx="23832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Waar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18320" y="3379320"/>
              <a:ext cx="968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79640" y="5411520"/>
              <a:ext cx="9828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605200" y="5411520"/>
              <a:ext cx="21240" cy="979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6200000">
              <a:off x="5621400" y="5411160"/>
              <a:ext cx="14760" cy="982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43240" y="5408640"/>
              <a:ext cx="98280" cy="9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68800" y="5408640"/>
              <a:ext cx="21240" cy="9828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6200000">
              <a:off x="5085000" y="5408280"/>
              <a:ext cx="14760" cy="982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110720" y="4977360"/>
              <a:ext cx="98280" cy="9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36640" y="4977360"/>
              <a:ext cx="21240" cy="9828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7152480" y="4977000"/>
              <a:ext cx="14760" cy="982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436800" y="3762000"/>
              <a:ext cx="98280" cy="9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62720" y="3762000"/>
              <a:ext cx="21240" cy="9828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6200000">
              <a:off x="6478560" y="3761640"/>
              <a:ext cx="14760" cy="982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69480" y="2190600"/>
              <a:ext cx="9792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395040" y="2190600"/>
              <a:ext cx="21240" cy="979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6200000">
              <a:off x="6410880" y="2190240"/>
              <a:ext cx="14760" cy="979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366960" y="2026080"/>
              <a:ext cx="9828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92520" y="2026080"/>
              <a:ext cx="21600" cy="979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6200000">
              <a:off x="6408720" y="2025720"/>
              <a:ext cx="14760" cy="982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43960" y="2344320"/>
              <a:ext cx="823320" cy="741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816960" y="2321280"/>
              <a:ext cx="823320" cy="7398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16960" y="2321280"/>
              <a:ext cx="823320" cy="7398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81200" y="2388600"/>
              <a:ext cx="51480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BK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951960" y="2841480"/>
              <a:ext cx="591480" cy="181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51960" y="2841480"/>
              <a:ext cx="591480" cy="18180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39440" y="2887200"/>
              <a:ext cx="36900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ijnelemen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951960" y="2526120"/>
              <a:ext cx="591480" cy="269280"/>
              <a:chOff x="6951960" y="2526120"/>
              <a:chExt cx="591480" cy="269280"/>
            </a:xfrm>
          </p:grpSpPr>
          <p:sp>
            <p:nvSpPr>
              <p:cNvPr id="599" name=""/>
              <p:cNvSpPr/>
              <p:nvPr/>
            </p:nvSpPr>
            <p:spPr>
              <a:xfrm>
                <a:off x="6951960" y="2526120"/>
                <a:ext cx="591480" cy="2692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951960" y="2526120"/>
                <a:ext cx="591480" cy="2692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7066440" y="2534040"/>
              <a:ext cx="40824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Grootschalig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58240" y="2700000"/>
              <a:ext cx="20052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63920" y="2617920"/>
              <a:ext cx="40140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opografisch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31840" y="2913120"/>
              <a:ext cx="98280" cy="9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457400" y="2913120"/>
              <a:ext cx="21240" cy="9828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6200000">
              <a:off x="7473600" y="2912760"/>
              <a:ext cx="14760" cy="982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31840" y="2683800"/>
              <a:ext cx="98280" cy="9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57400" y="2683800"/>
              <a:ext cx="21240" cy="9828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7473600" y="2683440"/>
              <a:ext cx="14760" cy="982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5623920" y="5650920"/>
              <a:ext cx="0" cy="64692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778000" y="5303520"/>
              <a:ext cx="6307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3C2-C988-482B-8E75-A6A12CBD256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 Sectormodel WOZ zelf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740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finieert specifieke WOZ-gegev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elatie met RSGB gegevens en entite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finieert WOZ-berich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ennisge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raag- antwo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ienstberich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t daarin RSGB gegevens en entit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0CA-20BF-425B-A683-581BE9AD04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0"/>
            <a:ext cx="147636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0" y="173160"/>
          <a:ext cx="9144000" cy="64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3160"/>
                    <a:ext cx="914400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4D4-989E-4A86-A243-D89B05F68A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aarom webservice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58560" y="1916280"/>
            <a:ext cx="8155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dersteunen workflow gemeentelijke applic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adastrale mutatie kan leiden tot hertaxat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zwaar maak hertaxatie nod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sluiting op internetdien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pvragen gegevens / maken bezwa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entral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1C7-EF69-4DCD-BEAB-2ADDC06B007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et werkt al!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IOX: Geautomatiseerde taxatiewij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itiatief/opdracht VNG/WOZ-data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 Q-Delft/Momentum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aande taxatiewij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aseerd op StUF 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depeildatum 2007 /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991-CAB8-4A7E-8586-27853E6C287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356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IOX: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axatiewijzer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kenschem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3633840" y="0"/>
            <a:ext cx="55101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455-036B-4EC8-BCF0-4E5B299C947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3924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IOX: Kengetalle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4071960" y="0"/>
            <a:ext cx="507204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D2C1-B8A7-40FF-AF4F-497371697BA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itgangssituati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uf-WO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stgesteld 1993, gebruikt sinds 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andsgeoriëntee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finitie gegevens en record 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fintie characterset en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aandelijks leveren 443 gemee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stgelegd in regelge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FA2-FD95-4C32-97BB-4F3C3CF9F3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76000" y="692280"/>
            <a:ext cx="8456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OX: het concep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7018200">
            <a:off x="3715560" y="2527560"/>
            <a:ext cx="430200" cy="718920"/>
          </a:xfrm>
          <a:prstGeom prst="upDownArrow">
            <a:avLst>
              <a:gd name="adj1" fmla="val 50000"/>
              <a:gd name="adj2" fmla="val 3326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510080" y="4183200"/>
            <a:ext cx="863640" cy="1081080"/>
          </a:xfrm>
          <a:prstGeom prst="flowChartMagneticDisk">
            <a:avLst/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4110000">
            <a:off x="3335040" y="3051000"/>
            <a:ext cx="430200" cy="1541520"/>
          </a:xfrm>
          <a:prstGeom prst="upDownArrow">
            <a:avLst>
              <a:gd name="adj1" fmla="val 50000"/>
              <a:gd name="adj2" fmla="val 7133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908640" y="15192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x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61040" y="4616280"/>
            <a:ext cx="138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r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xa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m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5853960" y="2936160"/>
            <a:ext cx="403200" cy="506160"/>
          </a:xfrm>
          <a:prstGeom prst="upDownArrow">
            <a:avLst>
              <a:gd name="adj1" fmla="val 50000"/>
              <a:gd name="adj2" fmla="val 2499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821360" y="4259160"/>
            <a:ext cx="9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kenrege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Exc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7412400">
            <a:off x="5854320" y="4781160"/>
            <a:ext cx="187200" cy="1152360"/>
          </a:xfrm>
          <a:prstGeom prst="upDownArrow">
            <a:avLst>
              <a:gd name="adj1" fmla="val 50000"/>
              <a:gd name="adj2" fmla="val 12254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990040" y="6488280"/>
            <a:ext cx="12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ehee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via stuurapplicati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363920" y="2527200"/>
            <a:ext cx="1379520" cy="115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100000">
                <a:srgbClr val="33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wiss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syste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rot="10800000">
            <a:off x="4724280" y="3753000"/>
            <a:ext cx="432000" cy="35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95760" y="2001960"/>
            <a:ext cx="782640" cy="81432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2626200" y="1374840"/>
            <a:ext cx="183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b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OZ Datacen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Cloud"/>
          <p:cNvSpPr/>
          <p:nvPr/>
        </p:nvSpPr>
        <p:spPr>
          <a:xfrm>
            <a:off x="1944720" y="2095560"/>
            <a:ext cx="763560" cy="485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1803240" y="3608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763560" y="1879560"/>
            <a:ext cx="1079640" cy="83808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4"/>
          <a:stretch/>
        </p:blipFill>
        <p:spPr>
          <a:xfrm>
            <a:off x="6235560" y="5553000"/>
            <a:ext cx="889200" cy="917640"/>
          </a:xfrm>
          <a:prstGeom prst="rect">
            <a:avLst/>
          </a:prstGeom>
          <a:ln w="0">
            <a:noFill/>
          </a:ln>
        </p:spPr>
      </p:pic>
      <p:grpSp>
        <p:nvGrpSpPr>
          <p:cNvPr id="644" name=""/>
          <p:cNvGrpSpPr/>
          <p:nvPr/>
        </p:nvGrpSpPr>
        <p:grpSpPr>
          <a:xfrm>
            <a:off x="6308640" y="2432160"/>
            <a:ext cx="1725840" cy="1469880"/>
            <a:chOff x="6308640" y="2432160"/>
            <a:chExt cx="1725840" cy="1469880"/>
          </a:xfrm>
        </p:grpSpPr>
        <p:sp>
          <p:nvSpPr>
            <p:cNvPr id="645" name="Gear"/>
            <p:cNvSpPr/>
            <p:nvPr/>
          </p:nvSpPr>
          <p:spPr>
            <a:xfrm>
              <a:off x="7265520" y="2432160"/>
              <a:ext cx="768960" cy="67392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08640" y="2709720"/>
              <a:ext cx="919440" cy="80568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04800" y="3007080"/>
              <a:ext cx="1021680" cy="89496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6522120" y="2023920"/>
            <a:ext cx="10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xati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02480" y="3392640"/>
            <a:ext cx="1081080" cy="8143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 rot="1719600">
            <a:off x="7243560" y="4253040"/>
            <a:ext cx="236520" cy="1442880"/>
          </a:xfrm>
          <a:prstGeom prst="upDownArrow">
            <a:avLst>
              <a:gd name="adj1" fmla="val 50000"/>
              <a:gd name="adj2" fmla="val 12144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7"/>
          <a:stretch/>
        </p:blipFill>
        <p:spPr>
          <a:xfrm>
            <a:off x="907920" y="5289480"/>
            <a:ext cx="1079640" cy="8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439-BC90-4AE9-AEEC-0141BDCD45F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OX: voordele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47280" y="1844280"/>
            <a:ext cx="75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orme toepassing rekenreg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ere onderbouw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em combineer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elijke uniforme onderd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stal (GVW), infrastructu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kale markt afhankelijke onderd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ateur één syste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elijke analyses van taxa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adplegen taxaties andere geme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AE6-9240-40C9-AC41-19532CC94CF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908000" y="1052640"/>
          <a:ext cx="6840720" cy="5200560"/>
        </p:xfrm>
        <a:graphic>
          <a:graphicData uri="http://schemas.openxmlformats.org/drawingml/2006/table">
            <a:tbl>
              <a:tblPr/>
              <a:tblGrid>
                <a:gridCol w="1084320"/>
                <a:gridCol w="849240"/>
                <a:gridCol w="851040"/>
                <a:gridCol w="844560"/>
                <a:gridCol w="3211560"/>
              </a:tblGrid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gevensreco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iti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egev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– 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– 7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 – 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 – 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– 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 – 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 – 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 – 13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 – 1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 – 1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 – 1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 – 15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 – 1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 – 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 – 1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 – 1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 – 1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 – 1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 – 2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 – 2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 – 2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 – 2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 – 2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.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6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rdidentificatiecode (= 2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ek WOZ-objectnum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onplaatsna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atna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isnum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islet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isnummertoevoe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anduiding bij huisnum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tieomschrij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ndoppervlak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bruiks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 gebouwd/ongebouw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egetaxeerde oppervlakte gebouw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andeel waarde gebouw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stgestelde waar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ardepeildat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jzondere-waarderings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tatie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gangsdat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nddat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anduiding valutaso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 blokker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C2A-C2E4-4BCC-B461-6B89B0E1DDE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Arial"/>
              </a:rPr>
              <a:t>Stuf-CA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stgesteld 1996, gebruikt sinds 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andsgeoriëntee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aarlijks leveren 443 gemeenten aan C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stgelegd in regelge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geleid van Stuf-W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A64-09CB-438B-9E7D-449912D58B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Arial"/>
              </a:rPr>
              <a:t>Stuf-TAX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gesproken in 1994, gebruikt sinds 19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onvenant Stuf-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andsgeoriëntee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geleid van Stuf-W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meenten en externe dienstverle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meentelijke applica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ok basis voor gegevens Data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445-4705-4EE8-883A-83329CD713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aalbaarheid berichtenverke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nselijk sinds 19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derzoek CAP Gemini (200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sten te ho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oek partners (met name BA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uze opname WOZ in het stelsel (200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uze gebruik generieke standaar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uze profiteren van wat er al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3410-8376-45D2-82B6-69E8169CB6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 beschikbare standaarde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RA: Nederlandse overheids referentiearchitectu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SB: Overheidsservice b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uctuur stelselcatalog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U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868-CA62-46FD-9913-9373A2EF9B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ekozen w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740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uden ons aan de standa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s nodig initiëren bijstelling stand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hang gehele WOZ-dom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mbitieus implementatiescen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uf-WOZ en Stuf-TAX niet “stelselproof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splicht komt er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voering mag best tandje sne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ikbaar, maar onbek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om nog zo weinig ervar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175-CF64-4416-A4D5-9738FCF7D8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trokken partije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740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meente, waterschap, Belastingdien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ers van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oftwareleveranc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xterne dienstverleners (taxateu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adaster (landelijke voorzie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NG (centrale servi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ata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UF XML ook buiten gemee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UF “service” ger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0F9-2007-4376-BCD4-29D770BF6E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0:17:56Z</dcterms:created>
  <dc:creator>R. Kathmann</dc:creator>
  <dc:description/>
  <dc:language>en-US</dc:language>
  <cp:lastModifiedBy>Kathmann</cp:lastModifiedBy>
  <dcterms:modified xsi:type="dcterms:W3CDTF">2008-12-12T08:50:08Z</dcterms:modified>
  <cp:revision>32</cp:revision>
  <dc:subject/>
  <dc:title>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Keywords">
    <vt:lpwstr/>
  </property>
  <property fmtid="{D5CDD505-2E9C-101B-9397-08002B2CF9AE}" pid="6" name="Slides">
    <vt:lpwstr>21</vt:lpwstr>
  </property>
  <property fmtid="{D5CDD505-2E9C-101B-9397-08002B2CF9AE}" pid="7" name="Subject">
    <vt:lpwstr/>
  </property>
  <property fmtid="{D5CDD505-2E9C-101B-9397-08002B2CF9AE}" pid="8" name="TemplateUrl">
    <vt:lpwstr/>
  </property>
  <property fmtid="{D5CDD505-2E9C-101B-9397-08002B2CF9AE}" pid="9" name="_AdHocReviewCycleID">
    <vt:lpwstr/>
  </property>
  <property fmtid="{D5CDD505-2E9C-101B-9397-08002B2CF9AE}" pid="10" name="_Author">
    <vt:lpwstr>R. Kathmann</vt:lpwstr>
  </property>
  <property fmtid="{D5CDD505-2E9C-101B-9397-08002B2CF9AE}" pid="11" name="_AuthorEmail">
    <vt:lpwstr>r.kathmann@waarderingskamer.nl</vt:lpwstr>
  </property>
  <property fmtid="{D5CDD505-2E9C-101B-9397-08002B2CF9AE}" pid="12" name="_AuthorEmailDisplayName">
    <vt:lpwstr>Ruud Kathmann</vt:lpwstr>
  </property>
  <property fmtid="{D5CDD505-2E9C-101B-9397-08002B2CF9AE}" pid="13" name="_Category">
    <vt:lpwstr/>
  </property>
  <property fmtid="{D5CDD505-2E9C-101B-9397-08002B2CF9AE}" pid="14" name="_Comments">
    <vt:lpwstr/>
  </property>
  <property fmtid="{D5CDD505-2E9C-101B-9397-08002B2CF9AE}" pid="15" name="_EmailSubject">
    <vt:lpwstr>Presentatie StUF Regiegroep</vt:lpwstr>
  </property>
  <property fmtid="{D5CDD505-2E9C-101B-9397-08002B2CF9AE}" pid="16" name="_SharedFileIndex">
    <vt:lpwstr/>
  </property>
  <property fmtid="{D5CDD505-2E9C-101B-9397-08002B2CF9AE}" pid="17" name="_SourceUrl">
    <vt:lpwstr/>
  </property>
  <property fmtid="{D5CDD505-2E9C-101B-9397-08002B2CF9AE}" pid="18" name="display_urn:schemas-microsoft-com:office:office#Author">
    <vt:lpwstr>jvde</vt:lpwstr>
  </property>
  <property fmtid="{D5CDD505-2E9C-101B-9397-08002B2CF9AE}" pid="19" name="display_urn:schemas-microsoft-com:office:office#Editor">
    <vt:lpwstr>jvde</vt:lpwstr>
  </property>
  <property fmtid="{D5CDD505-2E9C-101B-9397-08002B2CF9AE}" pid="20" name="xd_ProgID">
    <vt:lpwstr/>
  </property>
  <property fmtid="{D5CDD505-2E9C-101B-9397-08002B2CF9AE}" pid="21" name="xd_Signature">
    <vt:lpwstr/>
  </property>
</Properties>
</file>